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1873-3D4C-4A00-A2E4-7C9E5A401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B81A-99FA-4503-BF47-AE2E755A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DA74-4FEA-493C-87CA-8A7D069A5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678A-A7A0-435F-9DBF-510C6C5A8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E40A-B90D-4CEE-B524-D35322EA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CB0B-BC0E-4CD1-937D-AA7D9A2D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F831-3F59-459B-AB0F-A14CE6AE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7D5F-402C-4128-873A-6DD6F30C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6455-4228-4A5B-8BF6-6A2EF177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73C5-E3C6-48B9-9BED-25CF0865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2725-211A-49B3-B44B-4468ED5D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C115-0F93-4BDA-A40B-2EE53297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3F08-ACB6-4CCF-953F-DB6B7554B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__ Clase 8 IM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4 de enero del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447560"/>
            <a:ext cx="8991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posito # 24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Cómo repasamos para Quiz 3/4/5: Capitulo 8 del MAR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juga los siguientes verbos en el PRETER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v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to retur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i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to go 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to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i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to he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to g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to se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- Copy and rewrite in the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  ¿Leyó Martín el periódic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 miré mucho la te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oímos nosotr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oíste la mús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¡Ustedes leyeron un ensayo en españo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orquestas dieron un concierto en el audi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alí a las sie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6868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- Copy and respond in full Spanish sent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Asistieron ustedes al concierto de Ma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película viste en el c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Rosaura dio una fies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comieron ustedes en el almuerz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ntos boletos compraste en la taquil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II-  Copy and complete the following sentences with the correct form of the verb in the PRETER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las __________ comprar el pastel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prome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 ________ muchos regalos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recib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niños _________ la piñata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romp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ela _________ las invitaciones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escrib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_________ mucha gaseosa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beb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Él _________ en usar globos en la fiesta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insist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_ muchos vegetales crudos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com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Ustedes ___________ años ayer también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cumpl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05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distribuida en c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IZ 3/4/5: Capitulo 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 MART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ud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terito ER/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terito LEER/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abras Affirmativ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u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emp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abras Neg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3T20:11:32Z</dcterms:created>
  <dc:creator>Helen Zumaeta</dc:creator>
  <dc:description/>
  <dc:language>en-US</dc:language>
  <cp:lastModifiedBy>Helen Zumaeta</cp:lastModifiedBy>
  <dcterms:modified xsi:type="dcterms:W3CDTF">2013-01-04T19:07:08Z</dcterms:modified>
  <cp:revision>6</cp:revision>
  <dc:subject/>
  <dc:title>Me llamo ___________ Clase 8 IM La fecha es el 4 de enero del 2013</dc:title>
</cp:coreProperties>
</file>